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AA275-50B4-4C25-ACB2-DA1C0403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6557-3147-46EB-90D4-6AB503E01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C953D-4398-4C41-B791-845B75EC7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599DB-0F44-472D-8A05-46DE87A5B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BF83D-C71A-41E8-9C28-E47A507C9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AB74-DC89-404E-BC67-F833B9DBD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5AC52-75ED-445D-A4CF-76D6DF433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8508B-DFE1-4CBD-AF13-ED233C95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2F599-5990-47AB-A927-AD409CFC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663B-F2FB-48BE-8C68-C826F469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77A8-E6A0-44CF-BE9F-42E24577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7AC8-E233-4F1F-A37D-59D9E324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6842-3A51-419B-A7ED-A07F5667B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gation of Duties:</a:t>
            </a:r>
            <a:r>
              <a:rPr b="0"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66"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a:t>
            </a:r>
            <a:r>
              <a:rPr b="0" lang="en-US" sz="2800" spc="-1" strike="noStrike">
                <a:solidFill>
                  <a:srgbClr val="000000"/>
                </a:solidFill>
                <a:latin typeface="Arial"/>
              </a:rPr>
              <a:t>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0" name="PlaceHolder 2"/>
          <p:cNvSpPr>
            <a:spLocks noGrp="1"/>
          </p:cNvSpPr>
          <p:nvPr>
            <p:ph/>
          </p:nvPr>
        </p:nvSpPr>
        <p:spPr>
          <a:xfrm>
            <a:off x="228240" y="1142640"/>
            <a:ext cx="89154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arties prepare their contract, they may agree that it will terminate:</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on the occurrence of a specified event</a:t>
            </a:r>
            <a:r>
              <a:rPr b="0" lang="en-US" sz="2400" spc="-1" strike="noStrike">
                <a:solidFill>
                  <a:srgbClr val="000000"/>
                </a:solidFill>
                <a:latin typeface="Arial"/>
              </a:rPr>
              <a:t> (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2"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es who have made a contract may mutually agree to change the contract/relationship.</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itution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 &amp; Satisfaction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ation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4"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4">
                                            <p:txEl>
                                              <p:pRg st="0" end="0"/>
                                            </p:txEl>
                                          </p:spTgt>
                                        </p:tgtEl>
                                        <p:attrNameLst>
                                          <p:attrName>style.visibility</p:attrName>
                                        </p:attrNameLst>
                                      </p:cBhvr>
                                      <p:to>
                                        <p:strVal val="visible"/>
                                      </p:to>
                                    </p:set>
                                    <p:anim calcmode="lin" valueType="num">
                                      <p:cBhvr additive="base">
                                        <p:cTn id="2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4">
                                            <p:txEl>
                                              <p:pRg st="2" end="2"/>
                                            </p:txEl>
                                          </p:spTgt>
                                        </p:tgtEl>
                                        <p:attrNameLst>
                                          <p:attrName>style.visibility</p:attrName>
                                        </p:attrNameLst>
                                      </p:cBhvr>
                                      <p:to>
                                        <p:strVal val="visible"/>
                                      </p:to>
                                    </p:set>
                                    <p:anim calcmode="lin" valueType="num">
                                      <p:cBhvr additive="base">
                                        <p:cTn id="2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4">
                                            <p:txEl>
                                              <p:pRg st="4" end="4"/>
                                            </p:txEl>
                                          </p:spTgt>
                                        </p:tgtEl>
                                        <p:attrNameLst>
                                          <p:attrName>style.visibility</p:attrName>
                                        </p:attrNameLst>
                                      </p:cBhvr>
                                      <p:to>
                                        <p:strVal val="visible"/>
                                      </p:to>
                                    </p:set>
                                    <p:anim calcmode="lin" valueType="num">
                                      <p:cBhvr additive="base">
                                        <p:cTn id="33"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76"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066320"/>
            <a:ext cx="8915400" cy="48006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of Money:</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the money does not discharge the debt nor does it prevent the creditor from collecting later.</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2"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8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performed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8">
                                            <p:txEl>
                                              <p:pRg st="0" end="0"/>
                                            </p:txEl>
                                          </p:spTgt>
                                        </p:tgtEl>
                                        <p:attrNameLst>
                                          <p:attrName>style.visibility</p:attrName>
                                        </p:attrNameLst>
                                      </p:cBhvr>
                                      <p:to>
                                        <p:strVal val="visible"/>
                                      </p:to>
                                    </p:set>
                                    <p:anim calcmode="lin" valueType="num">
                                      <p:cBhvr additive="base">
                                        <p:cTn id="4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0"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cission</a:t>
            </a:r>
            <a:r>
              <a:rPr b="0"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itution</a:t>
            </a:r>
            <a:r>
              <a:rPr b="0"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nsatory</a:t>
            </a:r>
            <a:r>
              <a:rPr b="0"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equential</a:t>
            </a:r>
            <a:r>
              <a:rPr b="0"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4"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nitive</a:t>
            </a:r>
            <a:r>
              <a:rPr b="0"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ated</a:t>
            </a:r>
            <a:r>
              <a:rPr b="0"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minal</a:t>
            </a:r>
            <a:r>
              <a:rPr b="0" lang="en-US" sz="3200" spc="-1" strike="noStrike">
                <a:solidFill>
                  <a:srgbClr val="000000"/>
                </a:solidFill>
                <a:latin typeface="Arial"/>
              </a:rPr>
              <a:t> – When courts, even when no substantial hard has been done,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98"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0"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0">
                                            <p:txEl>
                                              <p:pRg st="1" end="1"/>
                                            </p:txEl>
                                          </p:spTgt>
                                        </p:tgtEl>
                                        <p:attrNameLst>
                                          <p:attrName>style.visibility</p:attrName>
                                        </p:attrNameLst>
                                      </p:cBhvr>
                                      <p:to>
                                        <p:strVal val="visible"/>
                                      </p:to>
                                    </p:set>
                                    <p:anim calcmode="lin" valueType="num">
                                      <p:cBhvr additive="base">
                                        <p:cTn id="49"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08"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0"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2"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14"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igate the damages</a:t>
            </a:r>
            <a:r>
              <a:rPr b="0"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ver</a:t>
            </a:r>
            <a:r>
              <a:rPr b="0"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18"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s of limitations: </a:t>
            </a:r>
            <a:r>
              <a:rPr b="0" lang="en-US" sz="3200" spc="-1" strike="noStrike">
                <a:solidFill>
                  <a:srgbClr val="000000"/>
                </a:solidFill>
                <a:latin typeface="Arial"/>
              </a:rPr>
              <a:t>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ruptcy</a:t>
            </a:r>
            <a:r>
              <a:rPr b="0"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pple’s payment  was to be sent by mail regardless of  to whom, so the assignment was prope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6:14:24Z</dcterms:modified>
  <cp:revision>104</cp:revision>
  <dc:subject/>
  <dc:title>Business Law</dc:title>
</cp:coreProperties>
</file>